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4.wmf" ContentType="image/x-wmf"/>
  <Override PartName="/ppt/media/image18.wmf" ContentType="image/x-wmf"/>
  <Override PartName="/ppt/media/image5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png" ContentType="image/png"/>
  <Override PartName="/ppt/media/image4.jpeg" ContentType="image/jpeg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0F7-74CD-4CA3-85B8-44046D1E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118-353E-4CE6-BC90-290BD0BB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F8A-B4D4-45E3-845E-17DCA6F6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172-EF81-410E-867A-39BA15C4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629-01B3-4C00-AC94-64AF1344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D5A-7335-4958-AE2D-4E9A6BF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535-A0C0-4A0D-B585-F3CD855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7C0-5AD5-4D28-8750-42E7E81A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631-8A11-4BC8-A238-FF6E26E6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139-A0D8-430D-BBEA-4BF4980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EF7-5F6E-4D29-BC66-9E7A2645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D80-04EC-4D1F-A804-7D28137F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907-B8CE-45DC-89DB-ACBD07F9EB3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333360"/>
            <a:ext cx="8280360" cy="80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SMISSIONE DEL MO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beri coassiali 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apporto di trasmissione unit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giu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beri coassiali e rapporto di trasmissione varia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giunti oleoidrau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beri paralleli leggermente disassati (quasi coassi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giunto OLDH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beri ad inclinazione variabile e rapporto di trasmissione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giunti carda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giunti omocin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pellegri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539640" y="69228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modulo v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0,3 a 1 m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 0,1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 a 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 a 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7 a 16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6 a 2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4 a 45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5 a 75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55640" y="4005360"/>
            <a:ext cx="734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ente dell’ingranaggio spinge il dente dell’altra ruota, rotolando su di esso, in teoria senza strisc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ttenere questo i profili dei denti hanno una geometria particolare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icloid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a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volv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zz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183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zzz"/>
          <p:cNvPicPr/>
          <p:nvPr/>
        </p:nvPicPr>
        <p:blipFill>
          <a:blip r:embed="rId2"/>
          <a:stretch/>
        </p:blipFill>
        <p:spPr>
          <a:xfrm>
            <a:off x="3219480" y="1989000"/>
            <a:ext cx="5924520" cy="18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zzzz"/>
          <p:cNvPicPr/>
          <p:nvPr/>
        </p:nvPicPr>
        <p:blipFill>
          <a:blip r:embed="rId3"/>
          <a:stretch/>
        </p:blipFill>
        <p:spPr>
          <a:xfrm>
            <a:off x="2895480" y="4400640"/>
            <a:ext cx="6248520" cy="245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0" y="1484280"/>
            <a:ext cx="30592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clo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iettoria di un punto di una circonferenza che si muove senza strisciare lungo una r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dest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clo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cloide accorci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cloide allung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volvente"/>
          <p:cNvPicPr/>
          <p:nvPr/>
        </p:nvPicPr>
        <p:blipFill>
          <a:blip r:embed="rId1"/>
          <a:stretch/>
        </p:blipFill>
        <p:spPr>
          <a:xfrm>
            <a:off x="4183200" y="1628640"/>
            <a:ext cx="4960800" cy="522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11280" y="836640"/>
            <a:ext cx="280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v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iettoria di un punto di una retta che ruota senza strisciare su una circonfe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volvente e cicloide sono profili coniu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ROCICLO"/>
          <p:cNvPicPr/>
          <p:nvPr/>
        </p:nvPicPr>
        <p:blipFill>
          <a:blip r:embed="rId1"/>
          <a:stretch/>
        </p:blipFill>
        <p:spPr>
          <a:xfrm>
            <a:off x="0" y="0"/>
            <a:ext cx="7236000" cy="6829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580000" y="40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truzione del dente a profilo cicloid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INIMO"/>
          <p:cNvPicPr/>
          <p:nvPr/>
        </p:nvPicPr>
        <p:blipFill>
          <a:blip r:embed="rId1"/>
          <a:stretch/>
        </p:blipFill>
        <p:spPr>
          <a:xfrm>
            <a:off x="468360" y="136440"/>
            <a:ext cx="8207280" cy="6694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716360" y="907920"/>
            <a:ext cx="31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ifichiamo per quale numero di denti la circonferenza tangente alla retta di azione è uguale alla circonferenza di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3"/>
          <p:cNvSpPr/>
          <p:nvPr/>
        </p:nvSpPr>
        <p:spPr>
          <a:xfrm>
            <a:off x="5221440" y="115920"/>
            <a:ext cx="30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ntatura ad evolv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5148360" y="3716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OELIC1"/>
          <p:cNvPicPr/>
          <p:nvPr/>
        </p:nvPicPr>
        <p:blipFill>
          <a:blip r:embed="rId1"/>
          <a:stretch/>
        </p:blipFill>
        <p:spPr>
          <a:xfrm>
            <a:off x="0" y="0"/>
            <a:ext cx="9142560" cy="9333000"/>
          </a:xfrm>
          <a:prstGeom prst="rect">
            <a:avLst/>
          </a:prstGeom>
          <a:ln w="0">
            <a:noFill/>
          </a:ln>
        </p:spPr>
      </p:pic>
      <p:sp>
        <p:nvSpPr>
          <p:cNvPr id="77" name="CasellaDiTesto 2"/>
          <p:cNvSpPr/>
          <p:nvPr/>
        </p:nvSpPr>
        <p:spPr>
          <a:xfrm>
            <a:off x="4932360" y="2924280"/>
            <a:ext cx="3095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ntatura ad evolv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z &gt;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ROELIC2"/>
          <p:cNvPicPr/>
          <p:nvPr/>
        </p:nvPicPr>
        <p:blipFill>
          <a:blip r:embed="rId1"/>
          <a:stretch/>
        </p:blipFill>
        <p:spPr>
          <a:xfrm>
            <a:off x="0" y="0"/>
            <a:ext cx="8820000" cy="61167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2"/>
          <p:cNvSpPr/>
          <p:nvPr/>
        </p:nvSpPr>
        <p:spPr>
          <a:xfrm>
            <a:off x="5796000" y="2952720"/>
            <a:ext cx="3095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ntatura ad evolv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z &lt;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ARTIC"/>
          <p:cNvPicPr/>
          <p:nvPr/>
        </p:nvPicPr>
        <p:blipFill>
          <a:blip r:embed="rId1"/>
          <a:stretch/>
        </p:blipFill>
        <p:spPr>
          <a:xfrm>
            <a:off x="-1044720" y="0"/>
            <a:ext cx="11452320" cy="11452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95280" y="9079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grandimento del particolare della figura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ruote_02"/>
          <p:cNvPicPr/>
          <p:nvPr/>
        </p:nvPicPr>
        <p:blipFill>
          <a:blip r:embed="rId1"/>
          <a:stretch/>
        </p:blipFill>
        <p:spPr>
          <a:xfrm>
            <a:off x="1022400" y="401760"/>
            <a:ext cx="6958080" cy="250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ruote_01"/>
          <p:cNvPicPr/>
          <p:nvPr/>
        </p:nvPicPr>
        <p:blipFill>
          <a:blip r:embed="rId2"/>
          <a:stretch/>
        </p:blipFill>
        <p:spPr>
          <a:xfrm>
            <a:off x="1476360" y="3429000"/>
            <a:ext cx="6245280" cy="256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ruote_01"/>
          <p:cNvPicPr/>
          <p:nvPr/>
        </p:nvPicPr>
        <p:blipFill>
          <a:blip r:embed="rId3"/>
          <a:stretch/>
        </p:blipFill>
        <p:spPr>
          <a:xfrm>
            <a:off x="324000" y="2933640"/>
            <a:ext cx="8658000" cy="355464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1"/>
          <p:cNvSpPr/>
          <p:nvPr/>
        </p:nvSpPr>
        <p:spPr>
          <a:xfrm>
            <a:off x="3348000" y="4017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rappresentazione d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uote dent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westcar.it/image/prodotti/funz_rotofluid.jpg"/>
          <p:cNvPicPr/>
          <p:nvPr/>
        </p:nvPicPr>
        <p:blipFill>
          <a:blip r:embed="rId1"/>
          <a:stretch/>
        </p:blipFill>
        <p:spPr>
          <a:xfrm>
            <a:off x="3276720" y="907920"/>
            <a:ext cx="2152440" cy="3533760"/>
          </a:xfrm>
          <a:prstGeom prst="rect">
            <a:avLst/>
          </a:prstGeom>
          <a:ln w="0">
            <a:noFill/>
          </a:ln>
        </p:spPr>
      </p:pic>
      <p:sp>
        <p:nvSpPr>
          <p:cNvPr id="43" name="CasellaDiTesto 2"/>
          <p:cNvSpPr/>
          <p:nvPr/>
        </p:nvSpPr>
        <p:spPr>
          <a:xfrm>
            <a:off x="2700360" y="4797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NTO OLEOIDRA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24000" y="33336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SMISSIONE DEL MO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i paralleli 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apporto di trasmissione qualsia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cinghie trapezoid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cinghie den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 ca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476280"/>
            <a:ext cx="8243640" cy="40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asmissioni ad as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assiali, paralleli, concorrenti o qualsi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Rapporti di trasmissioni qualsi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OTE DENTATE  (INGRANAG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55640" y="62064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efinisce ingranaggio una coppia dentata che trasferisce il moto rotatorio da un  albero all'altro per effetto dei denti successivamente a contatto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ruote dentate che possono essere classificate in base agli assi e ai denti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consideriamo gl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gli vari ingranaggi vengono distinti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ad assi paralle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ad assi concor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sghemb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9280" y="18900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uote denta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sono assumere forme diverse in possono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lindrich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ich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oidi(solo per alberi ad assi sghemb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li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magine 2" descr="ingrana4.bmp"/>
          <p:cNvPicPr/>
          <p:nvPr/>
        </p:nvPicPr>
        <p:blipFill>
          <a:blip r:embed="rId1"/>
          <a:stretch/>
        </p:blipFill>
        <p:spPr>
          <a:xfrm>
            <a:off x="1116000" y="2689200"/>
            <a:ext cx="2521080" cy="1227240"/>
          </a:xfrm>
          <a:prstGeom prst="rect">
            <a:avLst/>
          </a:prstGeom>
          <a:ln w="0">
            <a:noFill/>
          </a:ln>
        </p:spPr>
      </p:pic>
      <p:pic>
        <p:nvPicPr>
          <p:cNvPr id="49" name="Immagine 3" descr="ingrana7.JPG"/>
          <p:cNvPicPr/>
          <p:nvPr/>
        </p:nvPicPr>
        <p:blipFill>
          <a:blip r:embed="rId2"/>
          <a:stretch/>
        </p:blipFill>
        <p:spPr>
          <a:xfrm>
            <a:off x="5580000" y="2239920"/>
            <a:ext cx="2303640" cy="1598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IPMM07\Documenti\Immagini\ingrana8.JPG"/>
          <p:cNvPicPr/>
          <p:nvPr/>
        </p:nvPicPr>
        <p:blipFill>
          <a:blip r:embed="rId3"/>
          <a:stretch/>
        </p:blipFill>
        <p:spPr>
          <a:xfrm>
            <a:off x="468360" y="4071960"/>
            <a:ext cx="2879640" cy="22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IPMM07\Documenti\Immagini\ingr009[1].jpg"/>
          <p:cNvPicPr/>
          <p:nvPr/>
        </p:nvPicPr>
        <p:blipFill>
          <a:blip r:embed="rId4"/>
          <a:stretch/>
        </p:blipFill>
        <p:spPr>
          <a:xfrm>
            <a:off x="4932360" y="4005360"/>
            <a:ext cx="3887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ttangolo 1"/>
          <p:cNvSpPr/>
          <p:nvPr/>
        </p:nvSpPr>
        <p:spPr>
          <a:xfrm>
            <a:off x="395280" y="476280"/>
            <a:ext cx="8209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base 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ntatu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ntendendo per dente ciascuno degli elementi sporgenti di una ruota atti ad assicurare per contatto con i denti di un'altra ruota il trascinamento di una da parte dell'altra, gli ingranaggi possono esser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ntatura  dirit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icoida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elicoidale (inventata da Andrè Citroen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magine 3" descr="ruote07.gif"/>
          <p:cNvPicPr/>
          <p:nvPr/>
        </p:nvPicPr>
        <p:blipFill>
          <a:blip r:embed="rId1"/>
          <a:stretch/>
        </p:blipFill>
        <p:spPr>
          <a:xfrm>
            <a:off x="1835280" y="393372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IPMM07\Documenti\Immagini\Image1[1].jpg"/>
          <p:cNvPicPr/>
          <p:nvPr/>
        </p:nvPicPr>
        <p:blipFill>
          <a:blip r:embed="rId2"/>
          <a:stretch/>
        </p:blipFill>
        <p:spPr>
          <a:xfrm>
            <a:off x="7164360" y="1916280"/>
            <a:ext cx="1728720" cy="3125520"/>
          </a:xfrm>
          <a:prstGeom prst="rect">
            <a:avLst/>
          </a:prstGeom>
          <a:ln w="0">
            <a:noFill/>
          </a:ln>
        </p:spPr>
      </p:pic>
      <p:sp>
        <p:nvSpPr>
          <p:cNvPr id="55" name="CasellaDiTesto 5"/>
          <p:cNvSpPr/>
          <p:nvPr/>
        </p:nvSpPr>
        <p:spPr>
          <a:xfrm>
            <a:off x="324000" y="234936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granaggi si definisc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denti diritti se le direttrice dei fianchi dei denti sono rette generatrici della superficie cilindrica prim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icoidali, invece, quegli ingranaggi in cui le direttrici dei profili dei denti sono elich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55640" y="62064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realtà un ingranaggio non viene definito solo in base alla tipologia degli assi o della dentatura, bensì tenendo conto del modo in cui si combinano i due suddetti parametri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definitiva possiamo ottener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cilindrici a denti dirit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cilindrici a denti elicoidali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conici a denti dirit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conici a denti elicoid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a vite*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granaggi ipoidi (costituiti da assi sghemb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ote di forma conica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magine 2" descr="ingrana5.bmp"/>
          <p:cNvPicPr/>
          <p:nvPr/>
        </p:nvPicPr>
        <p:blipFill>
          <a:blip r:embed="rId1"/>
          <a:stretch/>
        </p:blipFill>
        <p:spPr>
          <a:xfrm>
            <a:off x="5292720" y="5013360"/>
            <a:ext cx="2808360" cy="145404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3"/>
          <p:cNvSpPr/>
          <p:nvPr/>
        </p:nvSpPr>
        <p:spPr>
          <a:xfrm>
            <a:off x="2556000" y="587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granaggio a 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62064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ementi caratteristici di un ingran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ss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metro primi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mero di denti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ulo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/z = p/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h=a+b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ezza del d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 = m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  b = (5/4)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bassato (Stub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=0,8 m     b=m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metro ester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+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metro inter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=d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golo di pres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=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pporto di trasmiss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τ=r1/r2=ω2/ ω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5300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introduce il modulo m per la difficoltà di correlare diametro primitivo, circonferenza primitiva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e passo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7:07:28Z</dcterms:created>
  <dc:creator>Arcangelo</dc:creator>
  <dc:description/>
  <dc:language>en-US</dc:language>
  <cp:lastModifiedBy>240</cp:lastModifiedBy>
  <dcterms:modified xsi:type="dcterms:W3CDTF">2012-05-29T07:19:55Z</dcterms:modified>
  <cp:revision>21</cp:revision>
  <dc:subject/>
  <dc:title>Diapositiva 1</dc:title>
</cp:coreProperties>
</file>